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E24E-D220-4510-9785-74DCB11B5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2D30-13C5-4383-B733-25A0FE178E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DB3E-E927-4FEC-924D-4F6477E52A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C8F4-1120-4DC8-84D8-F369113B3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3ED5-8C37-44E7-B9CD-AE480DE94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8721-D1E8-4C71-A2AF-153888F4F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697F-4703-4D2C-9822-C02BD0CF8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8AA3-2572-4831-9333-5D34B1A388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C82F-5A6C-4CF8-A231-34F3232C3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6723-E468-44FF-AD0C-DAD415EC8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2688-DD26-44B1-B3A6-C6DD09F33B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9C67-4443-4F35-98BC-AEF709B68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672C-34C6-4BE4-8A16-F3B3D161A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F187-F58E-429F-87DF-F7BEE35804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35D9-ABA8-4901-91B0-39AC4322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9F3-A999-45E7-9306-502E509E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4DF-9B5F-4099-B25C-517A12F9A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048-44E9-49C8-B582-8C369E5E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023-4A91-4C02-BD2B-C84253DC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FCB-B5AC-42BE-82E7-2512A818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A4D-3FE4-4EF8-8A92-948541DE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9BE8-45B1-4CD4-8FFC-BD2E7825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6EA-5BB8-4648-B87F-6BA3EE7B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A59-87DC-451E-AF83-771EB2E9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EDDB-980E-4465-9D11-AE56B4EE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F0E-4F9D-47FA-8DD4-DB95AE36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51C5-3D51-4015-AFAE-147833446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photomuse.org/media/database/00235.jpg"/>
          <p:cNvPicPr/>
          <p:nvPr/>
        </p:nvPicPr>
        <p:blipFill>
          <a:blip r:embed="rId1"/>
          <a:stretch/>
        </p:blipFill>
        <p:spPr>
          <a:xfrm>
            <a:off x="2286000" y="2057400"/>
            <a:ext cx="4762440" cy="3591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577680" y="11430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’Opéra de Paris 18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hoto de l'Opéra de Paris vers 1920."/>
          <p:cNvPicPr/>
          <p:nvPr/>
        </p:nvPicPr>
        <p:blipFill>
          <a:blip r:embed="rId1"/>
          <a:stretch/>
        </p:blipFill>
        <p:spPr>
          <a:xfrm>
            <a:off x="1905120" y="1752480"/>
            <a:ext cx="5267160" cy="3924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2746080" y="1066680"/>
            <a:ext cx="39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 Théatre et place de L’Opéra vers 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3574800" y="228600"/>
            <a:ext cx="169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’Opéra de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jourd’h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ttp://upload.wikimedia.org/wikipedia/commons/2/21/Facade_opera_Garnier.jpg"/>
          <p:cNvPicPr/>
          <p:nvPr/>
        </p:nvPicPr>
        <p:blipFill>
          <a:blip r:embed="rId1"/>
          <a:stretch/>
        </p:blipFill>
        <p:spPr>
          <a:xfrm>
            <a:off x="762120" y="838080"/>
            <a:ext cx="77724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[Paris: Theatre de l'Opera (Palais Garnier)]"/>
          <p:cNvPicPr/>
          <p:nvPr/>
        </p:nvPicPr>
        <p:blipFill>
          <a:blip r:embed="rId1"/>
          <a:stretch/>
        </p:blipFill>
        <p:spPr>
          <a:xfrm>
            <a:off x="2743200" y="1676520"/>
            <a:ext cx="3914640" cy="39146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1219320" y="91440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éra National de Paris - La salle de spectacle du Palais Garn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152280" y="83808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hotomuse.org/exhibitview.html?id=8&amp;images=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osmovisions.com/images/AL63c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upload.wikimedia.org/wikipedia/commons/2/21/Facade_opera_Garnier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ndreas-praefcke.de/carthalia/france/images/f_paris_opera_3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Delmaet &amp; Durandelle&#13;&#10;French (active 1862-1890)&#13;&#10;Work Yard in Front of the Opera, October 1864&#13;&#10;Albumen print&#13;&#10;16.3 x 22.2 cm.&#13;&#10;George Eastman House Collection, gift of Eastman Kodak Company: ex-collection Gabriel Cromer   "/>
          <p:cNvPicPr/>
          <p:nvPr/>
        </p:nvPicPr>
        <p:blipFill>
          <a:blip r:embed="rId1"/>
          <a:stretch/>
        </p:blipFill>
        <p:spPr>
          <a:xfrm>
            <a:off x="1905120" y="1523880"/>
            <a:ext cx="4762440" cy="348624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2594520" y="838080"/>
            <a:ext cx="370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 Yard in front of the Opéra, 18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elmaet &amp; Durandelle&#13;&#10;French (active 1862-1890)&#13;&#10;Auditorium Seen from Right Side, Looking Toward Stage, October 1864&#13;&#10;Albumen print&#13;&#10;28.4 x 38.6 cm.&#13;&#10;George Eastman House Collection, gift of Eastman Kodak Company: ex-collection Gabriel Cromer"/>
          <p:cNvPicPr/>
          <p:nvPr/>
        </p:nvPicPr>
        <p:blipFill>
          <a:blip r:embed="rId1"/>
          <a:stretch/>
        </p:blipFill>
        <p:spPr>
          <a:xfrm>
            <a:off x="2362320" y="1676520"/>
            <a:ext cx="4762440" cy="3504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1253520" y="838080"/>
            <a:ext cx="65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ditorium seen from right side, looking toward stage, October 18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elmaet &amp; Durandelle&#13;&#10;French (active 1862-1890)&#13;&#10;Wrapped Columns, Right Secondary Stairs, 1866&#13;&#10;Albumen print&#13;&#10;26.2 X 38.2 cm.&#13;&#10;George Eastman House Collection, gift of Eastman Kodak Company: ex-collection Gabriel Cromer "/>
          <p:cNvPicPr/>
          <p:nvPr/>
        </p:nvPicPr>
        <p:blipFill>
          <a:blip r:embed="rId1"/>
          <a:stretch/>
        </p:blipFill>
        <p:spPr>
          <a:xfrm>
            <a:off x="2057400" y="1447920"/>
            <a:ext cx="4762440" cy="3286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1998360" y="685800"/>
            <a:ext cx="47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d Columns, Right Secondary Stairs, 186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elmaet &amp; Durandelle&#13;&#10;French (active 1862-1890)&#13;&#10;Workmen on the Opera Roof Above the Stage Flytower, May 1869&#13;&#10;Albumen print &#13;&#10;27.0 x 38.3 cm. &#13;&#10;George Eastman House Collection, gift of Eastman Kodak Company: ex-collection Gabriel Cromer "/>
          <p:cNvPicPr/>
          <p:nvPr/>
        </p:nvPicPr>
        <p:blipFill>
          <a:blip r:embed="rId1"/>
          <a:stretch/>
        </p:blipFill>
        <p:spPr>
          <a:xfrm>
            <a:off x="2133720" y="1447920"/>
            <a:ext cx="4762440" cy="3352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303560" y="762120"/>
            <a:ext cx="62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men on the opera roof above the stage flytower, May 186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Delmaet &amp; Durandelle&#13;&#10;French (active 1862-1890)&#13;&#10;Iron Girders of the Stage Flytower,&#13;&#10;1868&#13;&#10;Albumen print &#13;&#10;27.4 x 39.4 cm. &#13;&#10;George Eastman House Collection, gift of Eastman Kodak Company: ex-collection Gabriel Cromer "/>
          <p:cNvPicPr/>
          <p:nvPr/>
        </p:nvPicPr>
        <p:blipFill>
          <a:blip r:embed="rId1"/>
          <a:stretch/>
        </p:blipFill>
        <p:spPr>
          <a:xfrm>
            <a:off x="2209680" y="1447920"/>
            <a:ext cx="4762800" cy="3314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2667960" y="76212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ron girders of the stage flytower, 18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elmaet &amp; Durandelle&#13;&#10;French (active 1862-1890)&#13;&#10;Steel Girders of Subscribers' Vestibule,&#13;&#10;March 1964&#13;&#10;Albumen print&#13;&#10;22.0 x 16.0 cm.&#13;&#10;George Eastman House Collection, gift of Eastman Kodak Company: ex-collection Gabriel Cromer    "/>
          <p:cNvPicPr/>
          <p:nvPr/>
        </p:nvPicPr>
        <p:blipFill>
          <a:blip r:embed="rId1"/>
          <a:stretch/>
        </p:blipFill>
        <p:spPr>
          <a:xfrm>
            <a:off x="3124080" y="990720"/>
            <a:ext cx="3438720" cy="47624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2209680" y="3808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el girders of subscribers’ vestibule, March 18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elmaet &amp; Durandelle&#13;&#10;French (active 1862-1890)&#13;&#10;Stone Cutters at Work on the Opera's Attic Frieze, January-August 1867&#13;&#10;Albumen print&#13;&#10;38.8 x 27.3 cm.  &#13;&#10;George Eastman House Collection, gift of Eastman Kodak Company: ex-collection Gabriel Cromer"/>
          <p:cNvPicPr/>
          <p:nvPr/>
        </p:nvPicPr>
        <p:blipFill>
          <a:blip r:embed="rId1"/>
          <a:stretch/>
        </p:blipFill>
        <p:spPr>
          <a:xfrm>
            <a:off x="2971800" y="1066680"/>
            <a:ext cx="3286080" cy="4762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1011240" y="533520"/>
            <a:ext cx="68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ne cutters at work on the Opera’s Attic Frieze, January – August 18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elmaet &amp; Durandelle&#13;&#10;French (active 1862-1890)&#13;&#10;Head of Minerva by Louis-Félix Chabaud,&#13;&#10;1865-68 &#13;&#10;Albumen print &#13;&#10;39.2 x 28.1 cm. &#13;&#10;George Eastman House Collection, gift of Eastman Kodak Company: ex-collection Gabriel Cromer "/>
          <p:cNvPicPr/>
          <p:nvPr/>
        </p:nvPicPr>
        <p:blipFill>
          <a:blip r:embed="rId1"/>
          <a:stretch/>
        </p:blipFill>
        <p:spPr>
          <a:xfrm>
            <a:off x="2895480" y="838080"/>
            <a:ext cx="3429000" cy="4762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2008440" y="22860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d of Minerva by Louis-Félix Chabaud, 1865 - 18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3:05:51Z</dcterms:created>
  <dc:creator>Cristy</dc:creator>
  <dc:description/>
  <dc:language>en-US</dc:language>
  <cp:lastModifiedBy>Cristy</cp:lastModifiedBy>
  <dcterms:modified xsi:type="dcterms:W3CDTF">2009-05-10T01:32:45Z</dcterms:modified>
  <cp:revision>9</cp:revision>
  <dc:subject/>
  <dc:title>Slide 1</dc:title>
</cp:coreProperties>
</file>